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9FF-AE57-4E72-A451-9E2CC30D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2BB-D760-435D-AB6D-6A7220B5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72E-9C6B-4AA0-B05B-4CEDDED8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37D-7B79-40A4-BA16-B8E4BD4F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1FAD-700D-496C-B497-9653B986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8937-ED37-40F6-80F7-186B2560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611C-41D8-4874-A52D-5F0580F7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C649-0EE0-4A4E-87FD-A565CA64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FE11-800C-42CB-BE93-BD0BA375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C9F0-0D7E-42F4-B1F8-DD6037D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6C5-C164-4306-9D64-405EEDA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B2A-81BE-4DCD-8199-3AF8F464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4E39-4F1E-4751-8176-F9F6A59C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3FE8-9057-4B08-977B-3C7AFAB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648F-C2BB-45D8-B1E9-38A453C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F186-5067-434F-BFE8-D6C6BDEC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5218-2936-4B7A-8EB8-6084A1C9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E23-CAB5-4085-9BE6-90A33C0C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13E-D82E-45E0-BDAB-C6ED8409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413-2104-4118-BCFB-D408E444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CB2-5057-4850-AAA9-F48980DF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07C-9AE4-4D28-93A6-E08729D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AAB-7CC2-4178-A758-5280A14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DB6-2824-405D-B84B-4C8E11F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70E6-DCC6-49F5-A795-DABB70A14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DBA3-DA0F-4856-8A37-3A00030D7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n Evolutionary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n Evolutionary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75DE-628F-4AD5-88CF-24109CFD1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32CE-2B38-4E23-8F07-4CF4A2449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key difference between evolutionary classification and Linnaean classif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Alex\Desktop\Batch 4\Art\Art 3_18_09+\BIO10NAE_05_18_03_LRIM_12.png"/>
          <p:cNvPicPr/>
          <p:nvPr/>
        </p:nvPicPr>
        <p:blipFill>
          <a:blip r:embed="rId1"/>
          <a:stretch/>
        </p:blipFill>
        <p:spPr>
          <a:xfrm>
            <a:off x="19080" y="373392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63960" indent="-31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itions of the derived characters on the cladogram reflect the order in which those characteristics arose in this line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960" indent="-31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ait of four limbs, for example, appeared before the trait of hair in the history of the ca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line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Alex\Desktop\Batch 4\Art\Art 3_18_09+\BIO10NAE_05_18_03_LRIM_13.png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derived character defines a clade. Hair, for example, is a defining character for the clade Mammal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ctable claws is a derived character shared only by members of the clade Felid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Users\Alex\Desktop\Batch 4\Art\Art 3_18_09+\BIO10NAE_05_18_03_LRIM_14.png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ed characters that appea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 the cladogram than the branch point for a clade are not derived for that particular cla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ir, for example, is not a derived character for the clade Carnivo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aller clades are nested within the larger cla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de Amniota is part of the larger clade Tetrapo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Alex\Desktop\Batch 4\Art\Art 3_18_09+\BIO10NAE_05_18_03_LRIM_12.pn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34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the importance of derived charac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cribe how to make and interpret a clad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erived Charact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olutionary classification focuses on certain kinds of characters, called derived characters, when assigning organisms into cla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ed charac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trait that shows up in the most recent common ancestor of a particular lineage and gets passed along to all of its desce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Alex\Desktop\Batch 4\Art\Art 3_18_09+\BIO10NAE_05_18_03_LRIM_04.png"/>
          <p:cNvPicPr/>
          <p:nvPr/>
        </p:nvPicPr>
        <p:blipFill>
          <a:blip r:embed="rId1"/>
          <a:stretch/>
        </p:blipFill>
        <p:spPr>
          <a:xfrm>
            <a:off x="1143000" y="4724280"/>
            <a:ext cx="6781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erived Charact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ther or not a character is derived depends on the level at which you’re grouping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limbs, for example, is a derived character for the clade tetrapo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ir is a derived character for the clade Mammalia, but four limb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ed for mammals. If it were, only mammals would have four limb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4343400" cy="186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3747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erived Charact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zed shearing teeth is a derived character for the clade Carnivora—of which both the coyote and lion are memb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ither hair nor four limbs is a derived character for this cla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ctable claws is a derived character for the clade Felidae (the cats). Notice that lions have this trait, but coyotes do n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Alex\Desktop\Batch 4\Art\Art 3_18_09+\BIO10NAE_05_18_03_LRIM_04.png"/>
          <p:cNvPicPr/>
          <p:nvPr/>
        </p:nvPicPr>
        <p:blipFill>
          <a:blip r:embed="rId1"/>
          <a:stretch/>
        </p:blipFill>
        <p:spPr>
          <a:xfrm>
            <a:off x="1219320" y="4800600"/>
            <a:ext cx="6705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Losing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sms can lose characteristics over time so systematists are cautious about using the absence of a trait as a derived charac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example, both whales and snakes have lost the tetrapod character of four limbs—but they are not very closely rela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akes are members of the clade Reptilia, while whales are members of the clade Mammal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cladogram shows a simplified phylogeny of the cat fam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Alex\Desktop\Batch 4\Art\Art 3_18_09+\BIO10NAE_05_18_03_LRIM_05.png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23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1828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owest node represents the last common ancestor of all four-limbed animals—members of the clade Tetrapo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Alex\Desktop\Batch 4\Art\Art 3_18_09+\BIO10NAE_05_18_03_005_LRIM_11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828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1828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rks show the order in which various groups branched off over the course of ev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Alex\Desktop\Batch 4\Art\Art 3_18_09+\BIO10NAE_05_18_03_005_LRIM_13.png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20:54Z</dcterms:created>
  <dc:creator>Alex</dc:creator>
  <dc:description/>
  <dc:language>en-US</dc:language>
  <cp:lastModifiedBy>dzahm</cp:lastModifiedBy>
  <dcterms:modified xsi:type="dcterms:W3CDTF">2013-12-02T20:48:18Z</dcterms:modified>
  <cp:revision>289</cp:revision>
  <dc:subject/>
  <dc:title>Slide 1</dc:title>
</cp:coreProperties>
</file>